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6D1F-D300-49A5-9270-05B531656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9F24-7E34-4FAC-91AE-86847FD3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7DE4-6F99-4430-855A-6075B083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EE2-3222-4B1E-A3A2-7CBEA3D3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77C-897B-48B6-BCD2-3FEF20B2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-19, 31-38, 47-50, 63-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1128-9450-402F-BB8C-2DA56862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-19, 31-38, 47-50, 63-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C703-5D95-4EFD-90C3-621D3873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-36 e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8, 54, 60 #70-76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97C5-4985-4545-B2CA-85C2BFBD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-36 e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8, 54, 60 #70-76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13EE-A88E-4994-A8BA-3000D22E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AD9-39C9-4B17-AA94-8864D1C5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8FC0-2313-42E3-8605-488F1E9D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2FEA-9752-4ACD-BCA6-6C44A9B9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0C9-5B6A-4924-BE09-7B3F852A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43B-EC3F-49D8-B466-CFB387E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4B9-20FA-4676-8123-25CCB9E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5729F-2F3D-4D6C-B47A-7902AA5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BEDE0-CB93-4789-A758-5B5C635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ED4C-890B-4A40-B284-4CD1DA52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6A8F-2A74-42A1-8BC5-B9BB50D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EB06F-D4E8-4C44-991A-7FA02FD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0712-CDB2-4169-91A2-11AC625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75D53-A1C2-4FD2-87C9-672EC4B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5BE6B-1F72-42AB-A50F-229D75E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6FBC-A097-463A-94D8-9220CAC6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DF2-167F-4361-8A12-E270B1AD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831-C7BF-4186-9B4B-5A100A8D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CAD-F698-43D8-A0C9-7BE8FDC8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50B2-8EA3-4E9E-8094-D772273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61DA-534C-4CB4-868F-8DEF1CB5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0477-A073-4E2C-8617-D18B3B3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9F79-926E-4960-8588-25D24B2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F1D-E205-4EDD-A62C-5DA6DDD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1C2-E110-48A6-8005-7ABA510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482-2C6F-445B-9BE2-68D5467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78CD-7244-41F3-9B90-423954B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461-28D7-402B-A64F-91700449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D92E-269E-4138-A164-1F3A766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ED3C-8237-48C5-8EDA-02EA17FE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43E-9011-434E-8E0F-10E4918A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813D-CE7A-4D97-B3CE-3F5BA19B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7A70-6308-4A19-9BC8-630622C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35B5-2E43-4CF6-91FA-18FCF108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B59B-4D52-4B3A-9B32-7DA14BE3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61B3-E3A9-4AD6-826C-F288EEAE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A0C-23E5-4C4B-99D1-72E2C84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9524-D8C6-448D-87D4-AEADCA1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A661-2557-4033-A190-2F578A43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A237-B08B-48AB-932F-647CF28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31EE-5675-49CA-9FC6-F537DE0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27E7-DAC8-404E-A055-5AA5B01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BBAB-DAA3-48F1-AA28-72B37431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76DB-A74F-4F50-B247-1D5E16E7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87C7-3BB1-4C39-A98E-80BBE87C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DD4D-807A-4EE6-BBB1-61268AB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3E1B-C59F-4B1B-B6F6-6C670085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18C-D0BE-4149-90FC-552CE10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4C68-309B-44AB-AC4C-CB247CE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75EB-BDE1-4AD2-829B-7F9A763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C91E-A718-4A27-BB69-0441AED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8B10-5D3E-470E-9C5D-CCA6D95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4904-47F0-46D4-B22D-8B29CB8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0295-0AF6-4F50-AE55-87C9E2B0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CEE9-4196-4A13-B407-367B66F3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DDC5-2063-4BA5-8704-4907081E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8465-716A-4242-B033-EF561A5A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D9B7-E752-4BDC-8AEB-E36D1FDA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C1A-D5C7-4881-A935-F4F42F60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8D09-F2B8-48E2-8D66-9203D0C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DF25-9E85-4FDC-B534-B63FA95B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5DB9-9F62-405F-9E57-6467F7A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C2D3-31CC-4FD2-8D35-ADEEDEC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7545-A8AC-407F-92D9-8C978C4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5791-26C1-4491-8658-2D06283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AB08-C05A-4192-B80A-427A357B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CC67-AB79-4D2D-B7B3-84AE1CF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61FE-F7DF-490E-9C19-E8CE1DA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52B9-B38B-4153-89AC-A81FF60D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FDA-CE7D-49ED-8E70-2815291F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2F79-E4D9-4DA5-B60E-11C15CE6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D5A3-9516-419F-86AD-A682AF82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DC57-43BD-4DF5-BB79-B7374951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8BD2-B2DE-480D-B75A-608064E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3CFA-963D-4BAD-95D1-22D8EDB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28F0-F435-4695-BA43-677457F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5FF6-DC27-4A58-94FC-299D71A0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0B0A-0804-4B64-AE1B-0DC2814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7159-7E68-49DD-A694-67499E3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BC4C-7731-48F4-A3A5-6BB5993D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F80-5160-4D25-B817-AC203F1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D2C7-2E22-4F60-9CAF-74060A6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308F-9E66-4CA7-9EBF-5A64FE71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E9F94-862B-46B5-B5E8-63EADACD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D0C7-165F-4EAE-9155-CE46CB8A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3C453-B16C-48A5-A4F8-FAEEB56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7AC81-C487-4E44-904A-636E888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54BF-8221-42CA-9217-B0B0E52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6CE0B-161B-41F4-A7AA-2B3F1124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2A24-E36F-4C00-A7CC-1CA7F3B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0890-46D0-48F8-B7A3-7982F8E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0AC-54A6-4FAC-99E9-1C910C51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6183B-8E49-400B-A60D-D2A96BB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FD34-BC98-408E-AD23-4F0429D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78EF2-5853-4E53-82D0-60648033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34D8B-6C7C-435F-8734-EDFF630D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11DCE-06C0-4315-9FF1-652051E5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50ACA-B9C2-418F-B522-6222A4B7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0C8C-B7AA-4C6A-9153-F1A35DFD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7DEB0-851C-4BE1-B1A4-BC89508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383CB-D729-4691-945D-45A9C85A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34D2-13DE-467E-82EA-A6D8121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604-F09E-407C-8390-98BDFEC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25F9-5DCF-4833-AD41-2B8E54A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8AB8-AEAE-40B9-A06D-634AAAA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65DA-BC91-45F2-8686-ABCE469F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1507-4BCD-4ECE-945D-F4B369B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E458E-4754-496A-BC73-D54675D4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AA87A-3273-4084-B378-DE5C089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04CB-2673-406B-A0C0-D5B99E2C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7FFE2-36F0-4E2D-BFF8-220FCDB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152B-2D6C-49A8-ABCD-84CB073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9A9F4-A5FB-4686-9D45-AFE24AC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2EDB-BA01-4E1A-A517-0A3E921D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A36F-CE9D-4287-8201-BCB5D8FD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43A-F6BB-4987-96FD-C9ADBC71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FC2B-86A5-4786-8F4B-4291BC25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769-D363-4C02-9A9B-2DF18E34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074-B4B3-48D6-AACE-1F07A228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350-3AD2-4C93-985C-1CC174646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C384-853C-4B06-A2E9-D7F5EB7A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255-A3F4-4BD6-8B48-46A10F4CA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5: Rational Functions and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the asymptot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and vertical asympt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990720" y="2765520"/>
            <a:ext cx="1981080" cy="892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4952880" y="2616120"/>
            <a:ext cx="2286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e rational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ach side by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19-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5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5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5-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+2 + (1/(x+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-2+ (4/(x-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+(1/(x+2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)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) -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) -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)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)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)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swers page 2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) f(x)= (x+4)(x-2)(x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) f(x)= -1(x+4)(x+1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) f(x)= -1(x+8)(x+4)(x+2)(x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) f(x)= (x+5)(x+2)(x-1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) f(x)= (x-1)(x-3)(x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) f(x)= 2(x+2)(x-5/2)(x+1) or (x+2)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) f(x)= -4(x+4)(x-.75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4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 -2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3+37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) 5-21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 15-4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35-15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 5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) 14+5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) -5-12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) -20-21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) (-1/13) –(5/13)(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0) (10/17)+(40/17)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) -0.2 – 1.6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) -2-4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0.36+0.48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) (-1/6) ± (i√11)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) (3/2) ± (i√11)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) 0.5 ± 0.5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4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) 2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) 3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) 4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) 1 real, 4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rational function and its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vertic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horizont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where f = p(x)/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1/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40384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Vertic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symptote: when the denominator is zero, there is a vertical asymptote at x=k, where k makes the denominator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orizont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sympt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lt;m th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=n then the line a/b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gt;m, there will be no horizontal asympto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Ameena</cp:lastModifiedBy>
  <dcterms:modified xsi:type="dcterms:W3CDTF">2008-11-20T21:23:22Z</dcterms:modified>
  <cp:revision>15</cp:revision>
  <dc:subject/>
  <dc:title>4.5 and 4.7</dc:title>
</cp:coreProperties>
</file>